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8.jpeg" ContentType="image/jpeg"/>
  <Override PartName="/ppt/media/image10.jpeg" ContentType="image/jpeg"/>
  <Override PartName="/ppt/media/image9.png" ContentType="image/png"/>
  <Override PartName="/ppt/media/image6.png" ContentType="image/png"/>
  <Override PartName="/ppt/media/image29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1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4.jpeg" ContentType="image/jpe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6104-C5B2-436A-8BBC-34CA16558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1ED9-32E4-496F-A211-64287B5FF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C8448-CD03-48C7-8972-BC3F26DE2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AA18-A8C3-4C28-9724-C73E4C36F8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373D-381B-485B-BDC6-4AE9187CA0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BE3F-12EB-44A7-8459-13B44E95B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3840-29CA-43C1-83F3-F561BA478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C62E-520F-4C90-BF18-7305E578D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3671-105A-4C08-8728-64D8039FD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E3037-9638-4628-9842-40307CEB8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AB52-B5AE-49BE-9A76-FEF1C3D96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3747-43E3-42F4-A5D1-817BAD2E1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E1E5-8DAC-4C1D-8A6C-F92726761A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227160"/>
            <a:ext cx="914400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TARFISH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DISS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Picture 2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617560" cy="356544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3"/>
          <p:cNvSpPr/>
          <p:nvPr/>
        </p:nvSpPr>
        <p:spPr>
          <a:xfrm>
            <a:off x="4107600" y="6369840"/>
            <a:ext cx="467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.emerchandise.com/images/p/SBS/pdPASBS0005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rcRect l="0" t="0" r="40744" b="15233"/>
          <a:stretch/>
        </p:blipFill>
        <p:spPr>
          <a:xfrm>
            <a:off x="1066680" y="2209680"/>
            <a:ext cx="5867640" cy="4218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KIN GIL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Hollow skin tubes that project from skin for increased surface area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onnect to coelom in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7382880" y="6324480"/>
            <a:ext cx="127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Image by Ried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kin gills between spi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 Bold"/>
              <a:ea typeface="ヒラギノ明朝 ProN W6"/>
            </a:endParaRPr>
          </a:p>
        </p:txBody>
      </p:sp>
      <p:grpSp>
        <p:nvGrpSpPr>
          <p:cNvPr id="82" name="Group 3"/>
          <p:cNvGrpSpPr/>
          <p:nvPr/>
        </p:nvGrpSpPr>
        <p:grpSpPr>
          <a:xfrm>
            <a:off x="38160" y="977760"/>
            <a:ext cx="9144000" cy="5738760"/>
            <a:chOff x="38160" y="977760"/>
            <a:chExt cx="9144000" cy="5738760"/>
          </a:xfrm>
        </p:grpSpPr>
        <p:sp>
          <p:nvSpPr>
            <p:cNvPr id="83" name="Rectangle 4"/>
            <p:cNvSpPr/>
            <p:nvPr/>
          </p:nvSpPr>
          <p:spPr>
            <a:xfrm>
              <a:off x="38160" y="977760"/>
              <a:ext cx="9144000" cy="57387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Picture 5" descr=""/>
            <p:cNvPicPr/>
            <p:nvPr/>
          </p:nvPicPr>
          <p:blipFill>
            <a:blip r:embed="rId1"/>
            <a:stretch/>
          </p:blipFill>
          <p:spPr>
            <a:xfrm>
              <a:off x="38160" y="977760"/>
              <a:ext cx="9144000" cy="57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Rectangle 6"/>
          <p:cNvSpPr/>
          <p:nvPr/>
        </p:nvSpPr>
        <p:spPr>
          <a:xfrm>
            <a:off x="1307880" y="5181480"/>
            <a:ext cx="6585480" cy="109764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EXCHANGE GASES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EXCRETE NITROGEN WA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5077080" y="959400"/>
            <a:ext cx="397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bio200.nsm.buffalo.edu/labs/tutor/Star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rcRect l="0" t="10454" r="0" b="0"/>
          <a:stretch/>
        </p:blipFill>
        <p:spPr>
          <a:xfrm>
            <a:off x="0" y="838080"/>
            <a:ext cx="9144000" cy="60944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1422000" y="0"/>
            <a:ext cx="7048800" cy="91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TUBE FEET surfac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5077080" y="5943600"/>
            <a:ext cx="397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bio200.nsm.buffalo.edu/labs/tutor/Star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EYE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09680" y="594360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ense light/da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858000" cy="51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rcRect l="1663" t="4456" r="5003" b="6228"/>
          <a:stretch/>
        </p:blipFill>
        <p:spPr>
          <a:xfrm>
            <a:off x="0" y="0"/>
            <a:ext cx="9144000" cy="65311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365760" y="380880"/>
            <a:ext cx="274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ORAL 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677120" y="6583320"/>
            <a:ext cx="397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bio200.nsm.buffalo.edu/labs/tutor/Star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rcRect l="10000" t="0" r="4162" b="3704"/>
          <a:stretch/>
        </p:blipFill>
        <p:spPr>
          <a:xfrm>
            <a:off x="380880" y="-77760"/>
            <a:ext cx="8305920" cy="69357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5077080" y="6583320"/>
            <a:ext cx="397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bio200.nsm.buffalo.edu/labs/tutor/Star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457200" y="-380880"/>
            <a:ext cx="8229600" cy="69228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"/>
          <p:cNvSpPr/>
          <p:nvPr/>
        </p:nvSpPr>
        <p:spPr>
          <a:xfrm>
            <a:off x="5933520" y="6583320"/>
            <a:ext cx="310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ebiomedia.com/gall/skin/skin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73640" y="5638680"/>
            <a:ext cx="7377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 Bold"/>
                <a:ea typeface="Times New Roman Bold"/>
              </a:rPr>
              <a:t>Opening to water vascular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16680" y="0"/>
            <a:ext cx="5454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 Bold"/>
                <a:ea typeface="Times New Roman Bold"/>
              </a:rPr>
              <a:t>Madreporit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91540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WATER VASCULAR SYST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778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>
            <a:off x="7689240" y="6095880"/>
            <a:ext cx="81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BIODI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56674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5043600" y="349920"/>
            <a:ext cx="343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mbgnet.mobot.org/salt/animals/star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-3657600" y="479520"/>
            <a:ext cx="12395160" cy="5435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775440" y="6164280"/>
            <a:ext cx="1676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Kidspiration by Ried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MBULACRAL GROO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8960" y="6171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TUBE FEET sit in GRO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446120" y="990720"/>
            <a:ext cx="6021360" cy="51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rcRect l="0" t="10454" r="0" b="0"/>
          <a:stretch/>
        </p:blipFill>
        <p:spPr>
          <a:xfrm>
            <a:off x="0" y="838080"/>
            <a:ext cx="9144000" cy="60944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2133360" y="0"/>
            <a:ext cx="3846960" cy="91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TUBE FEE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143000" y="1295280"/>
            <a:ext cx="7010280" cy="121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Used for feeding &amp; locomo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5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UT TRIVIU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629400" cy="49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5181840" cy="4727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3962520" cy="3063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1212840" y="304920"/>
            <a:ext cx="6632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DIGESTIVE GLA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449960" y="5334120"/>
            <a:ext cx="42048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Makes 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BSORBS NUTR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838080" y="360360"/>
            <a:ext cx="7848720" cy="6497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-21600" y="45000"/>
            <a:ext cx="544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.k-state.edu/organismic/echinoderms_and_protochordate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2 part STOM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629400" cy="50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586728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DIGESTIV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6400800" y="3886200"/>
            <a:ext cx="27432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9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DIGES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9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GL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380880" y="403848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9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DIGES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9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GL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677040" y="5029200"/>
            <a:ext cx="1592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803400" y="1295280"/>
            <a:ext cx="117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28240" y="4419360"/>
            <a:ext cx="89154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 fontScale="95000"/>
          </a:bodyPr>
          <a:p>
            <a:pPr marL="363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ARDIAC stomach connects to mout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(extruded during feed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63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PYLORIC stomach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 connects to digestive glands and AN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2498760" y="177840"/>
            <a:ext cx="4127400" cy="41911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3507480" y="198000"/>
            <a:ext cx="551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.k-state.edu/organismic/echinoderms_and_protochordates.ht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5027400" y="6445800"/>
            <a:ext cx="402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bio200.nsm.buffalo.edu/labs/tutor/Starfish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YM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DULTS- Rad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LARVA- Bilat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376440" cy="4743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5791320" y="3886200"/>
            <a:ext cx="2367000" cy="190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204840" y="6293520"/>
            <a:ext cx="407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.uic.edu/classes/bios/bios100/labs/radial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43430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MBULACRAL RIDGE covered by OSS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ontains RADIAL NERVE (nervo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ヒラギノ明朝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ヒラギノ明朝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RADIAL CANAL (water vascular syst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4264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4746600" y="228600"/>
            <a:ext cx="402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bio200.nsm.buffalo.edu/labs/tutor/Starfish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MBULACRAL RID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6632640" y="2057400"/>
            <a:ext cx="18396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7391160" cy="575316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4"/>
          <p:cNvGrpSpPr/>
          <p:nvPr/>
        </p:nvGrpSpPr>
        <p:grpSpPr>
          <a:xfrm>
            <a:off x="838080" y="2057400"/>
            <a:ext cx="5867280" cy="558720"/>
            <a:chOff x="838080" y="2057400"/>
            <a:chExt cx="5867280" cy="558720"/>
          </a:xfrm>
        </p:grpSpPr>
        <p:sp>
          <p:nvSpPr>
            <p:cNvPr id="161" name="Rectangle 5"/>
            <p:cNvSpPr/>
            <p:nvPr/>
          </p:nvSpPr>
          <p:spPr>
            <a:xfrm>
              <a:off x="838080" y="2057400"/>
              <a:ext cx="5867280" cy="558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838080" y="2057400"/>
              <a:ext cx="5867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spcBef>
                  <a:spcPts val="18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 Bold"/>
                  <a:ea typeface="Times New Roman Bold"/>
                </a:rPr>
                <a:t>AMPULLAE (tops of  tube feet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OSSICLES</a:t>
            </a:r>
            <a:br>
              <a:rPr sz="6000"/>
            </a:b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alcium carbonate plat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81080" y="5473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form endoskeleton in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133720" y="1930320"/>
            <a:ext cx="4876560" cy="34099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5138280" y="6324480"/>
            <a:ext cx="363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ebiomedia.com/prod/BOechinoderm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GONA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547560" y="414360"/>
            <a:ext cx="8048880" cy="60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1219320" y="277920"/>
            <a:ext cx="6692760" cy="62881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3331080" y="6445800"/>
            <a:ext cx="544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.k-state.edu/organismic/echinoderms_and_protochordate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NERVOUS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010280" cy="40226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"/>
          <p:cNvSpPr/>
          <p:nvPr/>
        </p:nvSpPr>
        <p:spPr>
          <a:xfrm>
            <a:off x="2389680" y="1143000"/>
            <a:ext cx="39884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NERVE R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 encircles mou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80360" y="5334120"/>
            <a:ext cx="8251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RADIAL NERVES run in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MBULACRAL RIDGE in each a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EPARATE SEX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044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GONADS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reproductive orga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tarfish have bo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EXU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SEXUAL (Regener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495360" y="304920"/>
            <a:ext cx="8153280" cy="62481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4"/>
          <p:cNvSpPr/>
          <p:nvPr/>
        </p:nvSpPr>
        <p:spPr>
          <a:xfrm>
            <a:off x="734400" y="274320"/>
            <a:ext cx="511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"/>
                <a:ea typeface="Arial"/>
              </a:rPr>
              <a:t>http://www.k-state.edu/organismic/echinoderms_and_protochordates.ht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-457200" y="336600"/>
            <a:ext cx="7162920" cy="65214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81680" y="1447560"/>
            <a:ext cx="2362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DIGESTIV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846480" y="2711520"/>
            <a:ext cx="17438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GON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832440" y="4057560"/>
            <a:ext cx="1906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OSS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1"/>
          <a:srcRect l="8060" t="8015" r="11304" b="21927"/>
          <a:stretch/>
        </p:blipFill>
        <p:spPr>
          <a:xfrm>
            <a:off x="4952880" y="2895480"/>
            <a:ext cx="3810240" cy="26672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934200" y="3505320"/>
            <a:ext cx="19267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LAR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736200" y="1219320"/>
            <a:ext cx="368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FERTI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5375520" y="1219320"/>
            <a:ext cx="2764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EXTER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307480" y="1981080"/>
            <a:ext cx="2845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INDIREC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1101240" y="5724360"/>
            <a:ext cx="666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Has BILATERAL SYMMETRY and wings to sw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837000" y="4419720"/>
            <a:ext cx="37126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BIPINNARI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776160" y="2009880"/>
            <a:ext cx="3697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DEVELO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2021400" y="317520"/>
            <a:ext cx="5369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28"/>
                </a:solidFill>
                <a:latin typeface="Times New Roman Bold"/>
                <a:ea typeface="Times New Roman Bold"/>
              </a:rPr>
              <a:t>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STARFIS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ヒラギノ明朝 ProN W6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ヒラギノ明朝 ProN W6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ヒラギノ明朝 ProN W6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ヒラギノ明朝 ProN W6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ヒラギノ明朝 ProN W6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ヒラギノ明朝 ProN W6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ヒラギノ明朝 ProN W6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LATIN m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KINGDOM  ____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PHYLUM 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LASS  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701800" y="2232000"/>
            <a:ext cx="251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ANIM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42080" y="3456000"/>
            <a:ext cx="65505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ECHINODERMATA “spiny skin</a:t>
            </a:r>
            <a:r>
              <a:rPr b="0" lang="en-US" sz="44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752480" y="4419720"/>
            <a:ext cx="71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ASTEROIDEA       “star-lik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3907840" presetSubtype="358944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3907840" presetSubtype="358963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3907840" presetSubtype="359072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488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4fe"/>
                </a:solidFill>
                <a:latin typeface="Times New Roman Bold Italic"/>
                <a:ea typeface="Times New Roman Bold Italic"/>
              </a:rPr>
              <a:t>ASEXUAL REP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67080" y="198072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91680" y="1625760"/>
            <a:ext cx="5046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bility to self amput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47040" y="3365640"/>
            <a:ext cx="576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bility to regrow lost p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4009320" y="2514600"/>
            <a:ext cx="3441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AUTOTOM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045320" y="4457880"/>
            <a:ext cx="42613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RE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PI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PEDICELLAR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KIN G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0" t="0" r="0" b="14732"/>
          <a:stretch/>
        </p:blipFill>
        <p:spPr>
          <a:xfrm>
            <a:off x="609480" y="2722680"/>
            <a:ext cx="8229600" cy="3525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6477120" y="6324480"/>
            <a:ext cx="233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Image by Ried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PINY SK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 Bold"/>
              <a:ea typeface="ヒラギノ明朝 ProN W6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0" y="901800"/>
            <a:ext cx="9144000" cy="5738760"/>
            <a:chOff x="0" y="901800"/>
            <a:chExt cx="9144000" cy="5738760"/>
          </a:xfrm>
        </p:grpSpPr>
        <p:sp>
          <p:nvSpPr>
            <p:cNvPr id="62" name="Rectangle 4"/>
            <p:cNvSpPr/>
            <p:nvPr/>
          </p:nvSpPr>
          <p:spPr>
            <a:xfrm>
              <a:off x="0" y="901800"/>
              <a:ext cx="9144000" cy="57387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901800"/>
              <a:ext cx="9144000" cy="57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6"/>
          <p:cNvSpPr/>
          <p:nvPr/>
        </p:nvSpPr>
        <p:spPr>
          <a:xfrm>
            <a:off x="800280" y="4724280"/>
            <a:ext cx="7534080" cy="155628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 Bold"/>
                <a:ea typeface="Times New Roman Bold"/>
              </a:rPr>
              <a:t>SPINES for protection connect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 Bold"/>
                <a:ea typeface="Times New Roman Bold"/>
              </a:rPr>
              <a:t>ENDOSKELETON inside underneath sk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077080" y="959400"/>
            <a:ext cx="397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bio200.nsm.buffalo.edu/labs/tutor/Star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OSSICLES</a:t>
            </a:r>
            <a:br>
              <a:rPr sz="6000"/>
            </a:b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alcium carbonate plat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27280" y="54356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form endoskeleton in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968480" y="1968480"/>
            <a:ext cx="4876920" cy="34099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5138280" y="6324480"/>
            <a:ext cx="363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ebiomedia.com/prod/BOechinoderm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PI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PEDICELLAR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KIN G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rcRect l="0" t="0" r="0" b="14732"/>
          <a:stretch/>
        </p:blipFill>
        <p:spPr>
          <a:xfrm>
            <a:off x="609480" y="2722680"/>
            <a:ext cx="8229600" cy="35258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6477120" y="6324480"/>
            <a:ext cx="233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Image by Ried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PEDICELLARIAE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sing.</a:t>
            </a: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Pedicellari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58672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Keep surface clear of org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038400" cy="4114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3505320" y="1828800"/>
            <a:ext cx="5257800" cy="396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riedell</dc:creator>
  <dc:description/>
  <cp:keywords/>
  <dc:language>en-US</dc:language>
  <cp:lastModifiedBy>Jason Cobb</cp:lastModifiedBy>
  <dcterms:modified xsi:type="dcterms:W3CDTF">2012-05-07T02:19:18Z</dcterms:modified>
  <cp:revision>3</cp:revision>
  <dc:subject/>
  <dc:title>STARFISH  DISSECTION</dc:title>
</cp:coreProperties>
</file>